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20F415F-C7CC-405F-A68B-AB8F3E173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nguage was revise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.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e and Ti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)(b)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ii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FRIs in one-month strips for two-year terms at and beyond the first in each annual CRR Auction.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ted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: Other FGRs may not be offered for two-years after the TNT Market Implementation Date or after that until approved by the ERCOT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“Timing of First CRR Auction”, ALL options and Board-approved PTP Obligations would be sold.  Refer to the next TNT issue on PTP obligations not allowed to be sold after the first 6-month trial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here are 2 alternatives to the language currently in Section 4.4.8.5.1: (1) the changes in the language proposed HERE and (2) derate with refund for over-sold CRR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THIRD alternative was being developed by LCRA for consideration at the August 26 TNT meeting –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11.6.1.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ssession of CRRs by ERCOT [language to be re-written.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may repossess CRRs held by a defaulting Counter-Party. ERCOT may effect that repossession by sending a written notice to the Counter-Party of the repossession and by removing the CRRs from the Counter-Party’s CRR Accoun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 ERCOT shall offer all of those repossessed CRRs, with each repossessed CRR in its existing configuration, in a one-time auction to Market Participa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other then the Counter-Party in Payment Default) for sale to the highest bidder.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RCOT may offset revenues from that sale against amounts owed to ERCOT by the Counter-Party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If ERCOT receives no bids for a CRR in that auction, ERCOT shall void the CRR and may not model it in all future DAMs and CCR Au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.9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RR Sett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7.9.1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Day-Ahead CRR Payments and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9.1.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ments and Charges for PTP Obligations Settled in D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For PTP Obligations that have a positive value and source or sink at a Resource Node, the PTP Obligation payment may be reduced due to directional network elements that are oversold in previous CRR au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sold in previous CRR auc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yment or charge to each CRR Owner for a given Operating Hour of PTP Obligations with each pair of source and sink Settlement Points settled in the DAM is calculate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f 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TP Obligation has a non-positive value or both source and sink at a Load Zone or Hub, i.e.,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(DAOBLPR </a:t>
            </a: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(j, k)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&lt; 0) OR (</a:t>
            </a: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is a Load Zone or Hub AND </a:t>
            </a: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is also a Load Zone or Hub),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AOBLAMT </a:t>
            </a:r>
            <a:r>
              <a:rPr b="1" i="1" lang="pt-BR" sz="1200" spc="-1" strike="noStrike">
                <a:solidFill>
                  <a:srgbClr val="000000"/>
                </a:solidFill>
                <a:latin typeface="Times New Roman"/>
              </a:rPr>
              <a:t>o, (j, k)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(-1) * DAOBLTP </a:t>
            </a:r>
            <a:r>
              <a:rPr b="1" i="1" lang="pt-BR" sz="1200" spc="-1" strike="noStrike">
                <a:solidFill>
                  <a:srgbClr val="000000"/>
                </a:solidFill>
                <a:latin typeface="Times New Roman"/>
              </a:rPr>
              <a:t>o, (j, 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f 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TP Obligation has a positive value and either source or sink is a Resource Node,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AOBLAMT </a:t>
            </a:r>
            <a:r>
              <a:rPr b="1" i="1" lang="pt-BR" sz="1200" spc="-1" strike="noStrike">
                <a:solidFill>
                  <a:srgbClr val="000000"/>
                </a:solidFill>
                <a:latin typeface="Times New Roman"/>
              </a:rPr>
              <a:t>o, (j, k)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(-1) * Max ((DAOBLTP</a:t>
            </a:r>
            <a:r>
              <a:rPr b="1" i="1" lang="pt-BR" sz="1200" spc="-1" strike="noStrike">
                <a:solidFill>
                  <a:srgbClr val="000000"/>
                </a:solidFill>
                <a:latin typeface="Times New Roman"/>
              </a:rPr>
              <a:t>o, (j, k)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 – DAOBLDA</a:t>
            </a:r>
            <a:r>
              <a:rPr b="1" i="1" lang="pt-BR" sz="1200" spc="-1" strike="noStrike">
                <a:solidFill>
                  <a:srgbClr val="000000"/>
                </a:solidFill>
                <a:latin typeface="Times New Roman"/>
              </a:rPr>
              <a:t>o, (j, k)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), Min (DAOBLTP </a:t>
            </a:r>
            <a:r>
              <a:rPr b="1" i="1" lang="pt-BR" sz="1200" spc="-1" strike="noStrike">
                <a:solidFill>
                  <a:srgbClr val="000000"/>
                </a:solidFill>
                <a:latin typeface="Times New Roman"/>
              </a:rPr>
              <a:t>o, (j, k)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, DAOBLHV </a:t>
            </a:r>
            <a:r>
              <a:rPr b="1" i="1" lang="pt-BR" sz="1200" spc="-1" strike="noStrike">
                <a:solidFill>
                  <a:srgbClr val="000000"/>
                </a:solidFill>
                <a:latin typeface="Times New Roman"/>
              </a:rPr>
              <a:t>o, (j, k)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s 8 and 17 had conforming changes to change the IMM to the Wholesale Electric Market Monitor and minor clean-up (e.g., capitalize defined te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8 had conforming changes to change the IMM to the Wholesale Electric Market Monitor and minor clean-up (e.g., capitalize defined te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8 had conforming changes to change the IMM to the Wholesale Electric Market Monitor and minor clean-up (e.g., capitalize defined te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FCAA-6A5A-4781-8568-8960F8E2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E3FD-61B5-45AB-A53A-879B5B23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7C25-729B-4C58-AEAF-F4F889459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9141-F887-487D-A33A-5E7C4FBD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171E-D848-4B7C-A3AD-72720D02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F092-C292-474F-B051-304D5335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B522-9FB2-4052-96D0-14FFE977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253-7D57-444B-83DB-3B337B75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BA75-A5B9-4E26-81CB-F9875B22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1B32-1D4C-466A-8B33-C98620F2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12F9-8ABF-487B-9B59-08558F05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E0EF-FE32-48DE-9957-BB3001A5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A1FA-A3FE-4B5E-97A6-D455A10C96D5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5851-8BA1-4D72-9756-AD71666E58B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977760" cy="855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436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45964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297000"/>
            <a:ext cx="3587760" cy="3463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ERCOT TA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TNT Updat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040" y="5121360"/>
            <a:ext cx="434196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ll Bojorquez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tember 7, 2005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367920"/>
            <a:ext cx="655308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ugust 22 TNT Vot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375920"/>
            <a:ext cx="7924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Removal of Synchronous Condenser language from the Nodal Protocols -  approved by unanimous voice vote</a:t>
            </a: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Transition Plan Outline -  approved by unanimous voice vote</a:t>
            </a: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be discussed under separate presentat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Eliminate the 2-year limitation for availability of Flowgate Rights – approved by unanimous voice vote</a:t>
            </a: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Timing of First CRR Auction” – approved by unanimous voice vote.  Approved motion to: </a:t>
            </a: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Provide that after the 6-month trial period is completed, sell CRRs for the balance of the current calendar year at the next monthly auction.”</a:t>
            </a:r>
            <a:r>
              <a:rPr b="0" lang="en-US" sz="2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75EB-4009-46FB-8C2B-807A711369C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22448-8338-4CCF-A921-94774B03C6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367920"/>
            <a:ext cx="655308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ugust 22 TNT Votes (cont.)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375920"/>
            <a:ext cx="79246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Timing of First PTP Obligations” – motion failed by ballot vote of 51.2% in favor and 48.8% opposed.  Failed motion:</a:t>
            </a: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en-US" sz="25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i="1" lang="en-US" sz="2500" spc="-1" strike="noStrike">
                <a:solidFill>
                  <a:srgbClr val="000000"/>
                </a:solidFill>
                <a:latin typeface="Arial Narrow"/>
              </a:rPr>
              <a:t>Allow obligations to be sold at all durations and locations after the first 6-month trial period is complete.”</a:t>
            </a: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Two-step Mitigation of CRR Deration” – motion failed by ballot vote of 64.3% in favor and 35.7% opposed.  Failed motion: </a:t>
            </a: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Apply the 2-step mitigation process in the DAM with the same floors and caps applied in Real-Time.  Virtual bids and offers at a Resource settlement point would be subject to the same floors and caps as the physical Resource at the settlement point.  PTP Obligations “up-to” bids are limited to $1000/MWh..”</a:t>
            </a:r>
            <a:r>
              <a:rPr b="0" lang="en-US" sz="2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F388-9EA2-4425-8B54-34787A34F8A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BF9D1-C662-4EAE-A1C8-86CB517619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760" y="367920"/>
            <a:ext cx="655308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ugust 22 TNT Votes (cont.)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375920"/>
            <a:ext cx="7924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Allow ERCOT to repossess CRRs held by a counter-party in the event of a default – approved by unanimous voice vote</a:t>
            </a: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00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Monthly CRR Auctions to include products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 Narrow"/>
              </a:rPr>
              <a:t>only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 for the next month – approved by majority voice vote.  Opposed by MEC and LCRA and no abstentions.</a:t>
            </a:r>
            <a:endParaRPr b="0" lang="en-US" sz="25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0E59-3616-4362-899A-5460F8A2DDA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7B21E-9B08-4504-82EA-6A590824283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367920"/>
            <a:ext cx="655308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ugust 29 TNT Vote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375920"/>
            <a:ext cx="79246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rate of Oversold CRRs Issue – approved by a ballot vote of 100% in favor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CRA proposal controls game opportunity while providing full hedge (being able to serve load at the Resource marginal cost with corresponding CR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liminates need to modify DAM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otential uplift of payment shortfall to all CRR holders is greatly reduce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tails added to section 7.9.1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CB82-1AE5-4EA3-B468-2075ADC0FCC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9D8EBD-6D2A-4A49-9BC5-CE667F2614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6625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NT Protocols Review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304640"/>
            <a:ext cx="820728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Derate of Oversold CRRs” issue prompted changes to sections 7 and 4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NT completed final review with minor changes to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 1 – Ov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 3 – Management Activities for the ERCOT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 4 – Day-Ahead Op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 5 – Transmission Security Analysis and Reliability Unit Commi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 8 – Performance Monitoring and Compli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 17 – Market Monitoring and Data Col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NT completed final review with more significant changes to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tion 16 – Credit (incorporating “netting” language from July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562F-4BBE-45BA-BB80-E6EBFE2D347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6DCDD-CC86-4B63-934A-04B44AE1EE4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6625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NT Protocols Review (cont.)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304640"/>
            <a:ext cx="799128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ill pending review on week of September 6th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ction 9 – Sett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ction 6 – Adjustment Period and Real-Time Operations  - 99% comp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ction 7 – Congestion Revenue Righ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ction 2 – 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ditional TNT Work Sessions have been scheduled for September 7th(pm) and 8th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PS proposes deletion of Section 6.5.7.3(6) of the TNT protocols relating to a demand curve for responsive reserve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use of RRS as a mitigation tool was proposed during the time an ERCOT capacity market was being consid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PS proposes mitigation be considered along with the co-optimization of the Real Time mar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ACCF-2012-4D81-A664-7D7CCEFCA26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D8AEB-DADF-4785-8953-F087CAFD803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4760" y="404280"/>
            <a:ext cx="66625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NT Protocols Review (cont.)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304640"/>
            <a:ext cx="799128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NT Protocol vote scheduled for September 12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75BB-553B-4E37-93F3-638B1F2543D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14D23-5D05-4919-859B-D4DAF952A62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0560" y="130464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Questions ?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23A3-199D-4696-86AB-C43D1B4D7FD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CEBC2-ADC6-4F43-9F47-1C6F84ABA2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xas Nodal Team</dc:creator>
  <dc:description/>
  <dc:language>en-US</dc:language>
  <cp:lastModifiedBy>bbojorquez</cp:lastModifiedBy>
  <dcterms:modified xsi:type="dcterms:W3CDTF">2005-09-07T14:33:34Z</dcterms:modified>
  <cp:revision>401</cp:revision>
  <dc:subject/>
  <dc:title>TNT 1022 Upd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